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717-0670-4B13-B724-459F18AA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BF5-FDB4-4B43-9341-EAFFE75B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E15-E574-4FC5-96B0-8292040E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8AA-7BA9-4A03-BC51-FA0903FF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98C-0F74-4655-A9CA-A19BF48F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8A2-87DD-41D6-BFB7-FE80651E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563-E368-43B8-A8AA-93A4DDF4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DF0-DB97-49ED-9F15-3E0B4212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D62-4ED9-4288-9C89-A80D7058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65E-DABC-4538-ADD7-525B02BD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BF3-31BB-4CE8-A9C9-76B72D5C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B19-46F4-4691-933F-F59CFAC9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72BC-9E67-4DBD-8992-A4518C91A1C0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CABINE DE SEGURANÇ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:\FOTOS_SCANIZADAS\MAQUINAS E ALFAIAS\Tractor\Cabine de segurança.jpg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C:\FOTOS_SCANIZADAS\MAQUINAS E ALFAIAS\Tractor\Tractor de 4 rodas motrizes desiguais.jpg"/>
          <p:cNvPicPr/>
          <p:nvPr/>
        </p:nvPicPr>
        <p:blipFill>
          <a:blip r:embed="rId1"/>
          <a:stretch/>
        </p:blipFill>
        <p:spPr>
          <a:xfrm>
            <a:off x="533520" y="838080"/>
            <a:ext cx="79246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arcador de Posição da Imagem Online 4" descr=""/>
          <p:cNvPicPr/>
          <p:nvPr/>
        </p:nvPicPr>
        <p:blipFill>
          <a:blip r:embed="rId1"/>
          <a:stretch/>
        </p:blipFill>
        <p:spPr>
          <a:xfrm>
            <a:off x="1403280" y="609480"/>
            <a:ext cx="6015240" cy="5794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C:\FOTOS_SCANIZADAS\MAQUINAS E ALFAIAS\Tractor\Tractor de 4 rodas motrizes iguais.jpg"/>
          <p:cNvPicPr/>
          <p:nvPr/>
        </p:nvPicPr>
        <p:blipFill>
          <a:blip r:embed="rId1"/>
          <a:stretch/>
        </p:blipFill>
        <p:spPr>
          <a:xfrm>
            <a:off x="990720" y="304920"/>
            <a:ext cx="723888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DE RASTOS (LAGARTAS OU ESTEIR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FOTOS_SCANIZADAS\MAQUINAS E ALFAIAS\Tractor\Tractor de lagartas.jpg"/>
          <p:cNvPicPr/>
          <p:nvPr/>
        </p:nvPicPr>
        <p:blipFill>
          <a:blip r:embed="rId1"/>
          <a:stretch/>
        </p:blipFill>
        <p:spPr>
          <a:xfrm>
            <a:off x="457200" y="2057400"/>
            <a:ext cx="73152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C:\FOTOS_SCANIZADAS\MAQUINAS E ALFAIAS\Tractor\Tractor de rastos_pormenor.jpg"/>
          <p:cNvPicPr/>
          <p:nvPr/>
        </p:nvPicPr>
        <p:blipFill>
          <a:blip r:embed="rId1"/>
          <a:stretch/>
        </p:blipFill>
        <p:spPr>
          <a:xfrm>
            <a:off x="1447920" y="228600"/>
            <a:ext cx="5913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TRACTOR DE RODAS GÉM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C:\FOTOS_SCANIZADAS\MAQUINAS E ALFAIAS\Tractor\Tractor de rodas gemeas.jpg"/>
          <p:cNvPicPr/>
          <p:nvPr/>
        </p:nvPicPr>
        <p:blipFill>
          <a:blip r:embed="rId1"/>
          <a:stretch/>
        </p:blipFill>
        <p:spPr>
          <a:xfrm>
            <a:off x="1447920" y="1447920"/>
            <a:ext cx="609588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RACTOR ESTRE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C:\FOTOS_SCANIZADAS\MAQUINAS E ALFAIAS\Tractor\Tractor estreito.jpg"/>
          <p:cNvPicPr/>
          <p:nvPr/>
        </p:nvPicPr>
        <p:blipFill>
          <a:blip r:embed="rId1"/>
          <a:stretch/>
        </p:blipFill>
        <p:spPr>
          <a:xfrm>
            <a:off x="1752480" y="1295280"/>
            <a:ext cx="53341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RACTOR FL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C:\FOTOS_SCANIZADAS\MAQUINAS E ALFAIAS\Tractor\Tractor florestal.jpg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PERN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C:\FOTOS_SCANIZADAS\MAQUINAS E ALFAIAS\Tractor\Tractor pernalta.jpg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FORMAÇÃO PROFISSIONAL\Imagens de Apoio\Cores\Tractor\Constituição.jpg"/>
          <p:cNvPicPr/>
          <p:nvPr/>
        </p:nvPicPr>
        <p:blipFill>
          <a:blip r:embed="rId1"/>
          <a:stretch/>
        </p:blipFill>
        <p:spPr>
          <a:xfrm>
            <a:off x="304920" y="228600"/>
            <a:ext cx="86248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ARCO DE SEGURANÇA OU PÓR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FOTOS_SCANIZADAS\MAQUINAS E ALFAIAS\Tractor\Arco de segurança tipo pórtico.jpg"/>
          <p:cNvPicPr/>
          <p:nvPr/>
        </p:nvPicPr>
        <p:blipFill>
          <a:blip r:embed="rId1"/>
          <a:stretch/>
        </p:blipFill>
        <p:spPr>
          <a:xfrm>
            <a:off x="838080" y="1523880"/>
            <a:ext cx="67820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FORMAÇÃO PROFISSIONAL\Imagens de Apoio\Cores\Tractor\Utiização.jpg"/>
          <p:cNvPicPr/>
          <p:nvPr/>
        </p:nvPicPr>
        <p:blipFill>
          <a:blip r:embed="rId1"/>
          <a:stretch/>
        </p:blipFill>
        <p:spPr>
          <a:xfrm>
            <a:off x="228600" y="457200"/>
            <a:ext cx="83818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FORMAÇÃO PROFISSIONAL\Imagens de Apoio\Cores\Tractor\Utiização1.jpg"/>
          <p:cNvPicPr/>
          <p:nvPr/>
        </p:nvPicPr>
        <p:blipFill>
          <a:blip r:embed="rId1"/>
          <a:stretch/>
        </p:blipFill>
        <p:spPr>
          <a:xfrm>
            <a:off x="533520" y="533520"/>
            <a:ext cx="832464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FORMAÇÃO PROFISSIONAL\Imagens de Apoio\Cores\Tractor\Utiização2.jpg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R DE ARRAN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C:\FOTOS_SCANIZADAS\MAQUINAS E ALFAIAS\Tractor\Motor de arranque.jpg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523880"/>
            <a:ext cx="54104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SISTEMA HIDRÁUL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C:\FOTOS_SCANIZADAS\MAQUINAS E ALFAIAS\Tractor\Sistema hidraulico.jpg"/>
          <p:cNvPicPr/>
          <p:nvPr/>
        </p:nvPicPr>
        <p:blipFill>
          <a:blip r:embed="rId1"/>
          <a:stretch/>
        </p:blipFill>
        <p:spPr>
          <a:xfrm>
            <a:off x="304920" y="1219320"/>
            <a:ext cx="83055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4 TEMPOS DO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609480" y="1828800"/>
          <a:ext cx="762012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QUADRO DE SEGURANÇ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FOTOS_SCANIZADAS\MAQUINAS E ALFAIAS\Tractor\Quadro de Segurança.jpg"/>
          <p:cNvPicPr/>
          <p:nvPr/>
        </p:nvPicPr>
        <p:blipFill>
          <a:blip r:embed="rId1"/>
          <a:stretch/>
        </p:blipFill>
        <p:spPr>
          <a:xfrm>
            <a:off x="1600200" y="1600200"/>
            <a:ext cx="62485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ICROTR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C:\FOTOS_SCANIZADAS\MAQUINAS E ALFAIAS\Tractor\Microtractor.jpg"/>
          <p:cNvPicPr/>
          <p:nvPr/>
        </p:nvPicPr>
        <p:blipFill>
          <a:blip r:embed="rId1"/>
          <a:stretch/>
        </p:blipFill>
        <p:spPr>
          <a:xfrm>
            <a:off x="1143000" y="1752480"/>
            <a:ext cx="6553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CULTIV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C:\FOTOS_SCANIZADAS\MAQUINAS E ALFAIAS\Tractor\Motocultivador.jpg"/>
          <p:cNvPicPr/>
          <p:nvPr/>
        </p:nvPicPr>
        <p:blipFill>
          <a:blip r:embed="rId1"/>
          <a:stretch/>
        </p:blipFill>
        <p:spPr>
          <a:xfrm>
            <a:off x="1905120" y="1828800"/>
            <a:ext cx="51051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ENX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C:\FOTOS_SCANIZADAS\MAQUINAS E ALFAIAS\Tractor\Motoenxada.jpg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GADANHEI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FOTOS_SCANIZADAS\MAQUINAS E ALFAIAS\Tractor\Motogadanheira.jpg"/>
          <p:cNvPicPr/>
          <p:nvPr/>
        </p:nvPicPr>
        <p:blipFill>
          <a:blip r:embed="rId1"/>
          <a:stretch/>
        </p:blipFill>
        <p:spPr>
          <a:xfrm>
            <a:off x="1295280" y="1523880"/>
            <a:ext cx="64771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FOTOS_SCANIZADAS\MAQUINAS E ALFAIAS\Tractor\Tractor articulado.jpg"/>
          <p:cNvPicPr/>
          <p:nvPr/>
        </p:nvPicPr>
        <p:blipFill>
          <a:blip r:embed="rId1"/>
          <a:stretch/>
        </p:blipFill>
        <p:spPr>
          <a:xfrm>
            <a:off x="457200" y="1523880"/>
            <a:ext cx="792468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FOTOS_SCANIZADAS\MAQUINAS E ALFAIAS\Tractor\Tractor de 2 rodas motrizes.jpg"/>
          <p:cNvPicPr/>
          <p:nvPr/>
        </p:nvPicPr>
        <p:blipFill>
          <a:blip r:embed="rId1"/>
          <a:stretch/>
        </p:blipFill>
        <p:spPr>
          <a:xfrm>
            <a:off x="1219320" y="762120"/>
            <a:ext cx="678168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7:27:38Z</dcterms:created>
  <dc:creator>DRARO</dc:creator>
  <dc:description/>
  <dc:language>en-US</dc:language>
  <cp:lastModifiedBy>Vitor Miguel Figueiredo</cp:lastModifiedBy>
  <cp:lastPrinted>2000-12-02T11:36:32Z</cp:lastPrinted>
  <dcterms:modified xsi:type="dcterms:W3CDTF">2017-03-02T11:36:55Z</dcterms:modified>
  <cp:revision>7</cp:revision>
  <dc:subject/>
  <dc:title>ARCO DE SEGURANÇA OU PÓRTICO</dc:title>
</cp:coreProperties>
</file>